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6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FB76-0FD8-448B-ACCA-64BD99D84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6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9BD4-F641-4D3D-88BB-ECFA3738C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1402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4416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6036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4020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6036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4020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5760" y="227160"/>
            <a:ext cx="8231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4416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8"/>
          <p:cNvSpPr/>
          <p:nvPr/>
        </p:nvSpPr>
        <p:spPr>
          <a:xfrm>
            <a:off x="7271640" y="6171480"/>
            <a:ext cx="1869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© 2000 South-Wes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ducational Publis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7" descr="C:\WINDOWS\Personal\C21 PowerPoint\Multi_Journal\cover-bl.gif"/>
          <p:cNvPicPr/>
          <p:nvPr/>
        </p:nvPicPr>
        <p:blipFill>
          <a:blip r:embed="rId2"/>
          <a:stretch/>
        </p:blipFill>
        <p:spPr>
          <a:xfrm>
            <a:off x="8153280" y="5029200"/>
            <a:ext cx="90180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TABLISHING A PETTY CASH FU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457200" y="838080"/>
            <a:ext cx="8229600" cy="703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ust 17. Paid cash to establish a petty cash fund, $200.00. Check No. 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52280" y="1887480"/>
            <a:ext cx="43434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accounts are affect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ty Ca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52280" y="5373720"/>
            <a:ext cx="65534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each amount entered in the account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 increase on the debit sid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 decrease on the credit sid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52280" y="4229280"/>
            <a:ext cx="60962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each classification changed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 are increas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 are decreas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280" y="3011400"/>
            <a:ext cx="52578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each account classifi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ty Ca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n asset accou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n asset accou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27"/>
          <p:cNvGrpSpPr/>
          <p:nvPr/>
        </p:nvGrpSpPr>
        <p:grpSpPr>
          <a:xfrm>
            <a:off x="5638680" y="1523880"/>
            <a:ext cx="2971800" cy="3881520"/>
            <a:chOff x="5638680" y="1523880"/>
            <a:chExt cx="2971800" cy="3881520"/>
          </a:xfrm>
        </p:grpSpPr>
        <p:grpSp>
          <p:nvGrpSpPr>
            <p:cNvPr id="54" name="Group 25"/>
            <p:cNvGrpSpPr/>
            <p:nvPr/>
          </p:nvGrpSpPr>
          <p:grpSpPr>
            <a:xfrm>
              <a:off x="5638680" y="3581280"/>
              <a:ext cx="2971800" cy="1824120"/>
              <a:chOff x="5638680" y="3581280"/>
              <a:chExt cx="2971800" cy="1824120"/>
            </a:xfrm>
          </p:grpSpPr>
          <p:sp>
            <p:nvSpPr>
              <p:cNvPr id="55" name="Text Box 10"/>
              <p:cNvSpPr/>
              <p:nvPr/>
            </p:nvSpPr>
            <p:spPr>
              <a:xfrm>
                <a:off x="6717600" y="3581280"/>
                <a:ext cx="71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as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Line 11"/>
              <p:cNvSpPr/>
              <p:nvPr/>
            </p:nvSpPr>
            <p:spPr>
              <a:xfrm>
                <a:off x="5638680" y="3962520"/>
                <a:ext cx="297180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Line 12"/>
              <p:cNvSpPr/>
              <p:nvPr/>
            </p:nvSpPr>
            <p:spPr>
              <a:xfrm>
                <a:off x="7086600" y="3962520"/>
                <a:ext cx="0" cy="14428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" name="Group 26"/>
            <p:cNvGrpSpPr/>
            <p:nvPr/>
          </p:nvGrpSpPr>
          <p:grpSpPr>
            <a:xfrm>
              <a:off x="5638680" y="1523880"/>
              <a:ext cx="2971800" cy="1828800"/>
              <a:chOff x="5638680" y="1523880"/>
              <a:chExt cx="2971800" cy="1828800"/>
            </a:xfrm>
          </p:grpSpPr>
          <p:sp>
            <p:nvSpPr>
              <p:cNvPr id="59" name="Text Box 14"/>
              <p:cNvSpPr/>
              <p:nvPr/>
            </p:nvSpPr>
            <p:spPr>
              <a:xfrm>
                <a:off x="6437520" y="1523880"/>
                <a:ext cx="1297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etty Cas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15"/>
              <p:cNvSpPr/>
              <p:nvPr/>
            </p:nvSpPr>
            <p:spPr>
              <a:xfrm>
                <a:off x="5638680" y="1905120"/>
                <a:ext cx="2971800" cy="46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16"/>
              <p:cNvSpPr/>
              <p:nvPr/>
            </p:nvSpPr>
            <p:spPr>
              <a:xfrm>
                <a:off x="7086600" y="1909800"/>
                <a:ext cx="0" cy="14428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" name="Text Box 17"/>
          <p:cNvSpPr/>
          <p:nvPr/>
        </p:nvSpPr>
        <p:spPr>
          <a:xfrm>
            <a:off x="5563080" y="2057400"/>
            <a:ext cx="144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5544000" y="4078440"/>
            <a:ext cx="144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9"/>
          <p:cNvSpPr/>
          <p:nvPr/>
        </p:nvSpPr>
        <p:spPr>
          <a:xfrm>
            <a:off x="6036480" y="2843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0"/>
          <p:cNvSpPr/>
          <p:nvPr/>
        </p:nvSpPr>
        <p:spPr>
          <a:xfrm>
            <a:off x="5819040" y="25909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21"/>
          <p:cNvSpPr/>
          <p:nvPr/>
        </p:nvSpPr>
        <p:spPr>
          <a:xfrm flipV="1">
            <a:off x="7679520" y="4875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22"/>
          <p:cNvSpPr/>
          <p:nvPr/>
        </p:nvSpPr>
        <p:spPr>
          <a:xfrm>
            <a:off x="7495560" y="4626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3"/>
          <p:cNvSpPr/>
          <p:nvPr/>
        </p:nvSpPr>
        <p:spPr>
          <a:xfrm>
            <a:off x="7426080" y="617148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6-4, page 1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TABLISHING A PETTY CASH FU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3" descr="D:\C21 PowerPoint\Multi_Journal\art for blue\Ch06\Ch06-04a.jpg"/>
          <p:cNvPicPr/>
          <p:nvPr/>
        </p:nvPicPr>
        <p:blipFill>
          <a:blip r:embed="rId1"/>
          <a:srcRect l="0" t="0" r="0" b="43800"/>
          <a:stretch/>
        </p:blipFill>
        <p:spPr>
          <a:xfrm>
            <a:off x="422280" y="1143000"/>
            <a:ext cx="8236080" cy="15238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514440" y="4022640"/>
            <a:ext cx="65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bit Petty Cas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14440" y="4395960"/>
            <a:ext cx="47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 Cas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14440" y="365760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14440" y="4759200"/>
            <a:ext cx="59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source document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8"/>
          <p:cNvSpPr/>
          <p:nvPr/>
        </p:nvSpPr>
        <p:spPr>
          <a:xfrm>
            <a:off x="727200" y="243828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9"/>
          <p:cNvSpPr/>
          <p:nvPr/>
        </p:nvSpPr>
        <p:spPr>
          <a:xfrm>
            <a:off x="8346960" y="17524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Group 10"/>
          <p:cNvGrpSpPr/>
          <p:nvPr/>
        </p:nvGrpSpPr>
        <p:grpSpPr>
          <a:xfrm>
            <a:off x="1600200" y="2428920"/>
            <a:ext cx="2860560" cy="1000080"/>
            <a:chOff x="1600200" y="2428920"/>
            <a:chExt cx="2860560" cy="1000080"/>
          </a:xfrm>
        </p:grpSpPr>
        <p:sp>
          <p:nvSpPr>
            <p:cNvPr id="78" name="Line 11"/>
            <p:cNvSpPr/>
            <p:nvPr/>
          </p:nvSpPr>
          <p:spPr>
            <a:xfrm flipH="1" flipV="1">
              <a:off x="1600200" y="2437920"/>
              <a:ext cx="1031760" cy="7621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12"/>
            <p:cNvSpPr/>
            <p:nvPr/>
          </p:nvSpPr>
          <p:spPr>
            <a:xfrm flipV="1">
              <a:off x="2860560" y="2428920"/>
              <a:ext cx="1600200" cy="9237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2556000" y="2895480"/>
              <a:ext cx="53316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Oval 14"/>
          <p:cNvSpPr/>
          <p:nvPr/>
        </p:nvSpPr>
        <p:spPr>
          <a:xfrm>
            <a:off x="3622680" y="17524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7426080" y="617148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6-4, page 1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8233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KING PAYMENTS FROM A PETTY CASH FUND WITH A PETTY CASH SLI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3" descr="D:\C21 PowerPoint\Multi_Journal\art for blue\Ch06\Ch06-04b.jpg"/>
          <p:cNvPicPr/>
          <p:nvPr/>
        </p:nvPicPr>
        <p:blipFill>
          <a:blip r:embed="rId1"/>
          <a:srcRect l="0" t="0" r="0" b="25348"/>
          <a:stretch/>
        </p:blipFill>
        <p:spPr>
          <a:xfrm>
            <a:off x="457200" y="1143000"/>
            <a:ext cx="6858000" cy="38703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7426080" y="617148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6-4, page 1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PLENISHING PETTY CAS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3" descr="D:\C21 PowerPoint\Multi_Journal\art for blue\Ch06\Ch06-04c.jpg"/>
          <p:cNvPicPr/>
          <p:nvPr/>
        </p:nvPicPr>
        <p:blipFill>
          <a:blip r:embed="rId1"/>
          <a:srcRect l="0" t="0" r="0" b="39698"/>
          <a:stretch/>
        </p:blipFill>
        <p:spPr>
          <a:xfrm>
            <a:off x="457200" y="1143000"/>
            <a:ext cx="8236080" cy="15541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514440" y="4022640"/>
            <a:ext cx="81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bit Miscellaneous Expense and Advertising Expen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514440" y="4395960"/>
            <a:ext cx="47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 Cas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514440" y="365760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514440" y="4759200"/>
            <a:ext cx="59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source document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8"/>
          <p:cNvSpPr/>
          <p:nvPr/>
        </p:nvSpPr>
        <p:spPr>
          <a:xfrm>
            <a:off x="727200" y="243828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9"/>
          <p:cNvSpPr/>
          <p:nvPr/>
        </p:nvSpPr>
        <p:spPr>
          <a:xfrm>
            <a:off x="8346960" y="17524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14"/>
          <p:cNvSpPr/>
          <p:nvPr/>
        </p:nvSpPr>
        <p:spPr>
          <a:xfrm>
            <a:off x="3622680" y="17524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17"/>
          <p:cNvGrpSpPr/>
          <p:nvPr/>
        </p:nvGrpSpPr>
        <p:grpSpPr>
          <a:xfrm>
            <a:off x="1863720" y="2362320"/>
            <a:ext cx="2860560" cy="1218960"/>
            <a:chOff x="1863720" y="2362320"/>
            <a:chExt cx="2860560" cy="1218960"/>
          </a:xfrm>
        </p:grpSpPr>
        <p:sp>
          <p:nvSpPr>
            <p:cNvPr id="96" name="Line 15"/>
            <p:cNvSpPr/>
            <p:nvPr/>
          </p:nvSpPr>
          <p:spPr>
            <a:xfrm flipV="1">
              <a:off x="3200400" y="2362320"/>
              <a:ext cx="1371600" cy="8380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16"/>
            <p:cNvSpPr/>
            <p:nvPr/>
          </p:nvSpPr>
          <p:spPr>
            <a:xfrm flipH="1" flipV="1">
              <a:off x="2742840" y="2362320"/>
              <a:ext cx="304920" cy="8380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Group 10"/>
            <p:cNvGrpSpPr/>
            <p:nvPr/>
          </p:nvGrpSpPr>
          <p:grpSpPr>
            <a:xfrm>
              <a:off x="1863720" y="2581200"/>
              <a:ext cx="2860560" cy="1000080"/>
              <a:chOff x="1863720" y="2581200"/>
              <a:chExt cx="2860560" cy="1000080"/>
            </a:xfrm>
          </p:grpSpPr>
          <p:sp>
            <p:nvSpPr>
              <p:cNvPr id="99" name="Line 11"/>
              <p:cNvSpPr/>
              <p:nvPr/>
            </p:nvSpPr>
            <p:spPr>
              <a:xfrm flipH="1" flipV="1">
                <a:off x="1863720" y="2590200"/>
                <a:ext cx="1031760" cy="76212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Line 12"/>
              <p:cNvSpPr/>
              <p:nvPr/>
            </p:nvSpPr>
            <p:spPr>
              <a:xfrm flipV="1">
                <a:off x="3124080" y="2581200"/>
                <a:ext cx="1600200" cy="92376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Oval 13"/>
              <p:cNvSpPr/>
              <p:nvPr/>
            </p:nvSpPr>
            <p:spPr>
              <a:xfrm>
                <a:off x="2819520" y="3047760"/>
                <a:ext cx="533160" cy="533520"/>
              </a:xfrm>
              <a:prstGeom prst="ellipse">
                <a:avLst/>
              </a:prstGeom>
              <a:solidFill>
                <a:srgbClr val="cc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Text Box 18"/>
          <p:cNvSpPr/>
          <p:nvPr/>
        </p:nvSpPr>
        <p:spPr>
          <a:xfrm>
            <a:off x="7426080" y="617148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6-4, page 1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0T23:17:25Z</dcterms:created>
  <dc:creator>Mary Colleen McLaughlin</dc:creator>
  <dc:description/>
  <dc:language>en-US</dc:language>
  <cp:lastModifiedBy>David Combs</cp:lastModifiedBy>
  <cp:lastPrinted>1999-03-30T18:57:43Z</cp:lastPrinted>
  <dcterms:modified xsi:type="dcterms:W3CDTF">2012-10-25T01:41:02Z</dcterms:modified>
  <cp:revision>24</cp:revision>
  <dc:subject/>
  <dc:title>THE ACCOUNTING EQUATION</dc:title>
</cp:coreProperties>
</file>